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459A-B1D9-42AF-B3A0-48E6C422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F7A7-D33F-472B-A093-BEB4FC9A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6360-51E8-4C0C-9F2E-9158D914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2352-5C50-4241-86A2-2A3C80FC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937F-2C60-41C6-B615-B37DF636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7129-58E1-4BFD-8564-88227F4D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43A0-B607-4C4E-87E8-EFEBECA4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0CA0-BD97-4285-A894-200CD3BB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1E8A-6C61-4A90-B596-EDCF1251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2D4E-6841-4DD8-96B6-E313E3B0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3D20-5C03-4F4B-B2B1-8F31887B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F6E7-C3D7-471B-87FD-477547DF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05F0-AD93-4F5E-A8CA-89E96AA886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&#1050;&#1072;&#1085;&#1082;&#1088;&#1080;&#1085;&#1072;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6858000" y="3429000"/>
            <a:ext cx="542880" cy="4762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shablony-dlya-prezentaziy-11-3.jpg"/>
          <p:cNvPicPr/>
          <p:nvPr/>
        </p:nvPicPr>
        <p:blipFill>
          <a:blip r:embed="rId2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1582920" y="571680"/>
            <a:ext cx="644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Методом выделения полного квад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реши уравн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1153440" y="185724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6154920" y="185724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s623309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11880" y="5565600"/>
            <a:ext cx="1724040" cy="12988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5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5"/>
          <a:stretch/>
        </p:blipFill>
        <p:spPr>
          <a:xfrm>
            <a:off x="1143000" y="2714760"/>
            <a:ext cx="2666880" cy="4856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"/>
          <p:cNvPicPr/>
          <p:nvPr/>
        </p:nvPicPr>
        <p:blipFill>
          <a:blip r:embed="rId6"/>
          <a:stretch/>
        </p:blipFill>
        <p:spPr>
          <a:xfrm>
            <a:off x="6143760" y="2714760"/>
            <a:ext cx="2666880" cy="4856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7"/>
          <a:stretch/>
        </p:blipFill>
        <p:spPr>
          <a:xfrm>
            <a:off x="1714680" y="3571920"/>
            <a:ext cx="809280" cy="476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6" descr=""/>
          <p:cNvPicPr/>
          <p:nvPr/>
        </p:nvPicPr>
        <p:blipFill>
          <a:blip r:embed="rId8"/>
          <a:stretch/>
        </p:blipFill>
        <p:spPr>
          <a:xfrm>
            <a:off x="6786720" y="3571920"/>
            <a:ext cx="80964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62"/>
          <p:cNvSpPr/>
          <p:nvPr/>
        </p:nvSpPr>
        <p:spPr>
          <a:xfrm>
            <a:off x="1500120" y="3357720"/>
            <a:ext cx="1143000" cy="7855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3"/>
          <p:cNvSpPr/>
          <p:nvPr/>
        </p:nvSpPr>
        <p:spPr>
          <a:xfrm>
            <a:off x="6643800" y="3357720"/>
            <a:ext cx="1143000" cy="7855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0:05:53Z</dcterms:created>
  <dc:creator>Admin</dc:creator>
  <dc:description/>
  <dc:language>en-US</dc:language>
  <cp:lastModifiedBy>Admin</cp:lastModifiedBy>
  <dcterms:modified xsi:type="dcterms:W3CDTF">2004-01-01T00:16:31Z</dcterms:modified>
  <cp:revision>2</cp:revision>
  <dc:subject/>
  <dc:title>Слайд 1</dc:title>
</cp:coreProperties>
</file>